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  <p:sldId id="284" r:id="rId44"/>
    <p:sldId id="285" r:id="rId45"/>
    <p:sldId id="286" r:id="rId46"/>
    <p:sldId id="287" r:id="rId47"/>
    <p:sldId id="288" r:id="rId48"/>
    <p:sldId id="289" r:id="rId49"/>
    <p:sldId id="290" r:id="rId50"/>
    <p:sldId id="291" r:id="rId51"/>
    <p:sldId id="292" r:id="rId52"/>
    <p:sldId id="293" r:id="rId53"/>
    <p:sldId id="294" r:id="rId54"/>
    <p:sldId id="295" r:id="rId55"/>
    <p:sldId id="296" r:id="rId56"/>
    <p:sldId id="297" r:id="rId57"/>
    <p:sldId id="298" r:id="rId5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slide" Target="slides/slide29.xml"/><Relationship Id="rId45" Type="http://schemas.openxmlformats.org/officeDocument/2006/relationships/slide" Target="slides/slide30.xml"/><Relationship Id="rId46" Type="http://schemas.openxmlformats.org/officeDocument/2006/relationships/slide" Target="slides/slide31.xml"/><Relationship Id="rId47" Type="http://schemas.openxmlformats.org/officeDocument/2006/relationships/slide" Target="slides/slide32.xml"/><Relationship Id="rId48" Type="http://schemas.openxmlformats.org/officeDocument/2006/relationships/slide" Target="slides/slide33.xml"/><Relationship Id="rId49" Type="http://schemas.openxmlformats.org/officeDocument/2006/relationships/slide" Target="slides/slide34.xml"/><Relationship Id="rId50" Type="http://schemas.openxmlformats.org/officeDocument/2006/relationships/slide" Target="slides/slide35.xml"/><Relationship Id="rId51" Type="http://schemas.openxmlformats.org/officeDocument/2006/relationships/slide" Target="slides/slide36.xml"/><Relationship Id="rId52" Type="http://schemas.openxmlformats.org/officeDocument/2006/relationships/slide" Target="slides/slide37.xml"/><Relationship Id="rId53" Type="http://schemas.openxmlformats.org/officeDocument/2006/relationships/slide" Target="slides/slide38.xml"/><Relationship Id="rId54" Type="http://schemas.openxmlformats.org/officeDocument/2006/relationships/slide" Target="slides/slide39.xml"/><Relationship Id="rId55" Type="http://schemas.openxmlformats.org/officeDocument/2006/relationships/slide" Target="slides/slide40.xml"/><Relationship Id="rId56" Type="http://schemas.openxmlformats.org/officeDocument/2006/relationships/slide" Target="slides/slide41.xml"/><Relationship Id="rId57" Type="http://schemas.openxmlformats.org/officeDocument/2006/relationships/slide" Target="slides/slide42.xml"/><Relationship Id="rId58" Type="http://schemas.openxmlformats.org/officeDocument/2006/relationships/slide" Target="slides/slide43.xml"/><Relationship Id="rId5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 type="dt" idx="4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5"/>
          <p:cNvSpPr>
            <a:spLocks noGrp="1"/>
          </p:cNvSpPr>
          <p:nvPr>
            <p:ph type="ftr" idx="4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PlaceHolder 6"/>
          <p:cNvSpPr>
            <a:spLocks noGrp="1"/>
          </p:cNvSpPr>
          <p:nvPr>
            <p:ph type="sldNum" idx="4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A0699-F08A-4A4B-B1EE-F8C8D8E869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CCA32-13F9-4A0E-9604-15D7C88867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2861B-49C1-40B6-8930-6DA9A514FD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FE2B8-B378-494E-B842-2E730FB51F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054F6-CA27-4914-8C1C-4A54932BFA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EDB3E-D40E-4014-A4AD-C081CF4CDE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B2EAE-4439-4030-8830-93B334283F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42129-1FF3-4802-8CEC-4D5ADA948A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EBB59-6D40-429F-83E5-5A93A224BB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B7328-AC61-4F03-976B-3D4C710F9D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2F450-CE22-4AA4-8320-D9F2B46447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61763-295E-4569-B64C-B85EB1F02D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B7CAA-2EA8-487B-A040-8164634879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A0795-9497-4B17-9D4F-F60C6E1F94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33DCE-B23D-4E15-91F5-F291C96C2E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0A4EC-A0EA-4B4A-8CA1-292BC71FF9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8A9D4-7B0A-40AF-BE60-CAEDD71CC8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A00A6-B0E4-40B7-8C8B-295AC3F9B8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E45B7-83C2-4928-9376-06BDB7C976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04AF4-A1DA-421F-99C2-D748F5B2F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129BB-3A5B-4AF4-8743-E50F5B718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2A83A8-7721-4A03-89E1-F7DDFB7CA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43C3D7-D5DF-4FE8-BF41-D052632D4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ED203E-735B-4902-87F8-C589C6DD5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E8D958-CF66-4FF2-BF3F-E47C5BBE8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7819F5-27F0-40A4-AC08-341BF89A9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9B5850-11A8-43A7-95C0-F16F971D2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D0BA97-679A-44EF-AB85-DC2DEC95A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F80913-2D54-49E9-9047-CC574F89D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87F9EB-7217-4020-8D2E-E8BE0F86F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792670-D228-4A8E-B354-1CD132F0F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08DB6-EF7C-4133-948B-CF1179F58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7FB0D3-65D9-4AB8-A126-C2268F0DC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45C4B2-0F71-4AEA-86B8-F11AC2306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B39CCC-FB6F-46EC-A1E3-01418FB05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DFC88A-9AA6-4045-852E-71D119148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2A6407-CFAF-4018-9461-42046300F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D90E96-780D-45ED-BA18-858DCF540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5F408F-3FCA-417E-ACF4-C3DBD5BAD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4038E6-02FA-4AC1-8F0F-176EB85CC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237146-60D4-495D-AB4E-467D58F13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8176E8-723F-4C83-9033-40135A295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00227-2C45-4749-A178-9EBE2B770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6EA947-FEB6-4464-8324-1D6EA884E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55FDC1-1214-42C8-B234-1691EB448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A8EDF4-E827-4171-8892-349596F47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210E73-0F87-4844-8BC1-27B2356B1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32E838-FCE2-43F8-848E-3CBAE4F83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D824F6-DA55-4551-BDC7-A97A6F8CA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A73FA9-0DDC-4FA8-89B6-C9AAA4F34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DD2EBE-B476-4E18-9F2C-E931656D6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3BD119-350F-474C-A70F-85E7915C8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112BEC-58B4-42F2-950C-B6C157BA1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759B6-D419-4E86-86A1-A855D67F3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FD2D15-AA3F-49AB-9C4C-0F5277E56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A8EBAB-A6B7-407C-8DA6-22CE2923B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E561B0-DCC0-4223-8A4D-F55C0A6CB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1F2EF2-3BDB-4E4E-895B-01006978F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8D6558-F51B-49A9-8D77-1A070C2C4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F6C4D5-B352-4629-A1B1-A07927B46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2CA01A-E61C-40E8-BA71-BBA0D9A50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444B3E-F478-4D43-A34F-B73DD900A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EF7751-CE07-4520-98BE-67CA65D71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A8DCD1-015C-4DEA-AE29-A56DAB409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05446-B6FE-49AB-82D6-89E3B3EBD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630B4B-F0E4-4F83-8081-5286443F3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651B10-8246-4368-BC59-8A042D452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8F5AD7-0565-48F4-8438-4BE4803A4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B9831D-02B2-49C7-A866-C433FC844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BDA50A-0E4A-4B15-8355-4BDC5837D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982B0BD-1DE9-4CA2-B5CF-AB7E8221D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17C03ED-58C5-47C5-9944-44CBBA9CA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00BFD13-5268-4962-9BFB-A22330D22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1A19A97-25B4-4A0C-B08C-90543A2AF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4E230C2-07CF-4B2B-900F-34CCDA6CC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12C6E-C711-4819-BFA9-A71F3554A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26F5DFA-6462-428D-A04A-E740EE0DE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B258D3C-3D30-4051-96FC-2A38D854A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01034B3-58DE-4F3D-85CF-3034FE02B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70A0E08-FAED-466C-B486-590502784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CEE69D5-CE93-43D4-B935-AFB45D40A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B853148-E09F-4ED0-A5A3-F40E8204B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21BDB4E-4BA1-4CC6-9348-0B596DE2C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2DAA6-0083-42ED-B5CD-E508213F1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8C71D-1825-4725-A8D8-151EAB847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25725-7E02-4216-BDD7-993E55D99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A7E92-7A27-4096-A79B-62ECF9B6E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5F127-55E2-4EC8-94CD-041B72730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F5DF9-4720-48CD-8E45-48F7F75A4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0F19A-BFC1-464D-90C4-990B61D36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0BD27-DA5F-4D44-BF4D-BBDA85700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C46E7-51B1-4146-ADB5-601A98507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E5C6C-0B27-4AAF-A072-4590746F8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C97345-2087-4975-B5E3-BAF974B49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33BD1B-2E93-48A5-A267-BAA2FEC11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204F55-4D9C-4145-8B0D-BAC16EB86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DF8FDD-157F-4820-95CA-D6A922AA3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8ADE43-1FAC-4DBD-A841-A76505794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F5BE8-D1CA-460E-8A44-C40486434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F915B8-4117-4D28-B94D-BB568D827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0D9B9B-0895-45F7-9182-7487270F7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9046EF-295C-4E1D-8371-4F3184061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7A3D5D-8A4F-4D52-AAD8-4F64FCDFA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D1BCC7-86B0-4D7D-8078-B3AEDAED0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0A8A41-7A01-4216-A403-3070A1893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8ADCB5-EC12-48BC-B160-1758B0C47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272729B-3810-40F3-B125-7A441C825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64EA17B-48B5-4763-A599-6F04AEA5C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911C596-4D01-4514-A375-3066DFEBF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4D7FE-259D-4297-B520-5948F9ABB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43A6F96-3E24-4D4C-BC8B-AE872223A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E2D1E45-A68C-4ED2-B9DD-FBD522302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A00D128-9D87-4EB7-9258-45BC91F1A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B015F45-64E0-48F2-9C3A-E234136ED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B40C7BA-7EC8-42FF-90EF-6CB5F9A85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2573635-7579-4389-BA57-C28606592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45A6BA0-6BB4-4C93-AE0B-BF01601C0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9547E11-8E81-423A-9004-0E5F173CC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3AE3E64-FC5D-4FE3-B6D1-137A27BEC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E4B198-4613-4DA5-9CA0-EC5DAD94E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20B4D-1D62-429D-9A33-00930B40C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A680A3-9D3B-49C1-8AEC-EB2A2DDD3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2B3F35-1915-40DB-84CF-8F173572A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7769A6-BE1D-4BA4-A190-7E4DE509D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EDAB66-4D32-4970-9366-1FE65CE9B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B2B104-9AE9-4A3E-B24E-A3021E4B8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865FD6-F5F2-4977-8853-7B9D132A5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2BC26D-28C0-4774-9D0B-B4F0D05E8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EE3972-2664-4CC9-B99A-C98E96BE5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02C934-7384-4437-BFB7-DA890B5BD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F08C31-44C5-4214-A264-6014FF723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3AC26-57A7-4CE0-B1CF-E7688EB7D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0CD323-1496-49B0-B9B2-05C963DC6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9E137A-0E12-4BD1-AF90-DE671BF3B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FD6A61-9CAB-4208-A94E-F665F16D0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5F3251-76DA-4DA4-B05D-0968F1965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9C5C26-8725-46E5-9705-B6E753F95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C179DA-07EA-4AAF-B72B-710A9F4C1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920529-65E4-46F2-A1D6-BE732E93C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57E7F3-DB6E-4B52-B196-079BECE5D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EFB8BE-EF41-4EB6-BE90-500601D13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8D066B-5D3C-45A1-B777-7A73FBA48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CB4DA-D93E-4FCF-812E-745070EFB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C5B1F2-63F5-42F2-B7D1-33F99A2F2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0639FD-9815-4DA5-BACE-31CA01088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E688DB-2DBC-4BF6-B64B-3DBDE13DB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EFC01C-161D-46FE-84F0-E823CD9F0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070BBE-39B7-4669-A444-38ED27D22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79043E-98DE-4626-B1D0-2D72F3CE0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53BAAB-1B95-4E1F-9A3F-785D23E6F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CD4CFC-ED2A-4960-973F-D1C83F269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57B5D2-1FD1-457F-BF77-7005E4C75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2DF79F-ED4A-4E2E-AAD9-D309AB24F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A2380-6A08-4763-83A3-238B3FD2B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388A5D-0524-45B7-AA4F-6937BE337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717811-7D0E-4B72-961B-B0F6446F1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0DE9C5-D47B-4BA0-8B7C-6BB96928B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1CD60D-0447-4CC8-809E-A78BFC6A0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4882A5-DF03-4C43-BD93-F9D3D6D90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0DC247-CDDE-4C19-816B-9357697C9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593908-9EF7-4FE7-80B3-1BDF1976B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433A81-8F93-46E7-93DC-9ACFDA3B3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6AEC1F-AE06-4E2A-AB50-EF7E7EF13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F93C86-1DA3-48F7-8AC3-757CB00DC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B8A01-A243-4EDB-873F-9FF895236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F9DBAB-647B-4774-A89E-60AE05105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782881-3074-4E12-BE65-96DA75524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BC3E31-6F7C-4DBA-ADF3-DF85B5B52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25432B-ECB1-41C1-B6DD-315C4B202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12CFB6-7DBB-4668-8002-32E85595E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6A0851-DA42-4368-A1C6-1697BA3E1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1DAFFE-8AE5-4F69-8BD3-0C421EFEA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D71782-79A3-4B5B-8D53-9CF87C21A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7EB9B8-6A9B-474C-BB02-CBE98ACDB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B5C849-1C53-4A36-9D26-7B8C4281A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23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24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25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ounded Rectangle 26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ounded Rectangle 40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41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42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Rectangle 43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44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5E24F-D755-4026-A582-FC100914F63F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 type="dt" idx="28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 type="ftr" idx="2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 type="sldNum" idx="30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760B1-80D6-4FF0-B31D-286A149EFBEB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dt" idx="3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 type="ftr" idx="3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 type="sldNum" idx="3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52A2F-C258-45EF-A2C5-632AD312E36B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dt" idx="3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ftr" idx="3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sldNum" idx="3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D823C-1101-4E74-9591-DBA8AB3DB939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 type="dt" idx="3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 type="ftr" idx="3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5"/>
          <p:cNvSpPr>
            <a:spLocks noGrp="1"/>
          </p:cNvSpPr>
          <p:nvPr>
            <p:ph type="sldNum" idx="3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FDE65-3E0B-482B-A1F0-4081DDFCA89B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CA275-2A0A-40E2-8C78-290DBC6A87A1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ftr" idx="8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sldNum" idx="9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F9BE3-DB81-4832-B6E7-9AD7E3E8E513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sldNum" idx="1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B4FBD-DA70-4FC1-9F30-47DCF29379CF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ftr" idx="1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 type="dt" idx="13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F98C8-A9A9-4BEE-BA97-B4D4F0105EC6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17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1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03C55-BC18-4759-A251-6764692B8527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dt" idx="19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 type="ftr" idx="20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 type="sldNum" idx="21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3E137-D5FF-4615-917C-CACB7C449207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ftr" idx="23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sldNum" idx="2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7900E-896E-4DB8-8BC7-58E6E67C7571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 type="dt" idx="25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 type="ftr" idx="2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 type="sldNum" idx="2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EFF98-BE06-4E85-AC39-FF9894234136}" type="slidenum"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oncurrent Engineering and Teamwork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hapter 13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oncurrent vs Traditional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6840" y="2249640"/>
            <a:ext cx="40338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Concurrent Engineering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38086"/>
                </a:solidFill>
                <a:latin typeface="Georgia"/>
              </a:rPr>
              <a:t>Parallel operation</a:t>
            </a:r>
            <a:endParaRPr b="0" lang="en-US" sz="22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38086"/>
                </a:solidFill>
                <a:latin typeface="Georgia"/>
              </a:rPr>
              <a:t>Everyone is working together</a:t>
            </a:r>
            <a:endParaRPr b="0" lang="en-US" sz="22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38086"/>
                </a:solidFill>
                <a:latin typeface="Georgia"/>
              </a:rPr>
              <a:t>Marketing, manufacturing, and procurement personnel involved from design stage</a:t>
            </a:r>
            <a:endParaRPr b="0" lang="en-US" sz="2200" spc="-1" strike="noStrike">
              <a:solidFill>
                <a:srgbClr val="438086"/>
              </a:solidFill>
              <a:latin typeface="Georgi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52640" y="2249640"/>
            <a:ext cx="40338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Traditional Business Practice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38086"/>
                </a:solidFill>
                <a:latin typeface="Georgia"/>
              </a:rPr>
              <a:t>Each step is done serially</a:t>
            </a:r>
            <a:endParaRPr b="0" lang="en-US" sz="2200" spc="-1" strike="noStrike">
              <a:solidFill>
                <a:srgbClr val="438086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548a"/>
                </a:solidFill>
                <a:latin typeface="Georgia"/>
              </a:rPr>
              <a:t>One at a time</a:t>
            </a:r>
            <a:endParaRPr b="0" lang="en-US" sz="2000" spc="-1" strike="noStrike">
              <a:solidFill>
                <a:srgbClr val="53548a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38086"/>
                </a:solidFill>
                <a:latin typeface="Georgia"/>
              </a:rPr>
              <a:t>One person works on one project at one time</a:t>
            </a:r>
            <a:endParaRPr b="0" lang="en-US" sz="2200" spc="-1" strike="noStrike">
              <a:solidFill>
                <a:srgbClr val="4380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Use of Teams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456840" y="2249640"/>
            <a:ext cx="40338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Use of teams and new technologies have changed the process of engineering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38086"/>
                </a:solidFill>
                <a:latin typeface="Georgia"/>
              </a:rPr>
              <a:t>CAD/CAM</a:t>
            </a:r>
            <a:endParaRPr b="0" lang="en-US" sz="22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38086"/>
                </a:solidFill>
                <a:latin typeface="Georgia"/>
              </a:rPr>
              <a:t>Rapid Prototyping</a:t>
            </a:r>
            <a:endParaRPr b="0" lang="en-US" sz="22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38086"/>
                </a:solidFill>
                <a:latin typeface="Georgia"/>
              </a:rPr>
              <a:t>Shared Data</a:t>
            </a:r>
            <a:endParaRPr b="0" lang="en-US" sz="22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38086"/>
                </a:solidFill>
                <a:latin typeface="Georgia"/>
              </a:rPr>
              <a:t>Advanced Communications</a:t>
            </a:r>
            <a:endParaRPr b="0" lang="en-US" sz="2200" spc="-1" strike="noStrike">
              <a:solidFill>
                <a:srgbClr val="438086"/>
              </a:solidFill>
              <a:latin typeface="Georgia"/>
            </a:endParaRPr>
          </a:p>
        </p:txBody>
      </p:sp>
      <p:pic>
        <p:nvPicPr>
          <p:cNvPr id="738" name="Picture 5" descr="A3_prototyping"/>
          <p:cNvPicPr/>
          <p:nvPr/>
        </p:nvPicPr>
        <p:blipFill>
          <a:blip r:embed="rId1"/>
          <a:srcRect l="0" t="3706" r="0" b="20373"/>
          <a:stretch/>
        </p:blipFill>
        <p:spPr>
          <a:xfrm>
            <a:off x="4233960" y="838080"/>
            <a:ext cx="4349520" cy="5181840"/>
          </a:xfrm>
          <a:prstGeom prst="rect">
            <a:avLst/>
          </a:prstGeom>
          <a:ln w="0">
            <a:noFill/>
          </a:ln>
        </p:spPr>
      </p:pic>
      <p:sp>
        <p:nvSpPr>
          <p:cNvPr id="739" name="Rectangle 6"/>
          <p:cNvSpPr/>
          <p:nvPr/>
        </p:nvSpPr>
        <p:spPr>
          <a:xfrm>
            <a:off x="4334760" y="5943600"/>
            <a:ext cx="4173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mmid.nl/ned/frameA3_services_prototyping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7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7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7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7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7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7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7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7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7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7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Speed…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Timely delivery of products to marketplace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Critical for profit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Do not compromise quality to meet demand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We have seen what wins in our marketplaces around the globe: speed, speed, and more speed.”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04da3"/>
                </a:solidFill>
                <a:latin typeface="Georgia"/>
              </a:rPr>
              <a:t>	</a:t>
            </a:r>
            <a:r>
              <a:rPr b="0" lang="en-US" sz="1800" spc="-1" strike="noStrike">
                <a:solidFill>
                  <a:srgbClr val="a04da3"/>
                </a:solidFill>
                <a:latin typeface="Georgia"/>
              </a:rPr>
              <a:t>	</a:t>
            </a:r>
            <a:r>
              <a:rPr b="0" lang="en-US" sz="1800" spc="-1" strike="noStrike">
                <a:solidFill>
                  <a:srgbClr val="a04da3"/>
                </a:solidFill>
                <a:latin typeface="Georgia"/>
              </a:rPr>
              <a:t>	</a:t>
            </a:r>
            <a:r>
              <a:rPr b="0" lang="en-US" sz="1800" spc="-1" strike="noStrike">
                <a:solidFill>
                  <a:srgbClr val="a04da3"/>
                </a:solidFill>
                <a:latin typeface="Georgia"/>
              </a:rPr>
              <a:t>Jack Welch - Former CEO of GE</a:t>
            </a:r>
            <a:endParaRPr b="0" lang="en-US" sz="1800" spc="-1" strike="noStrike">
              <a:solidFill>
                <a:srgbClr val="a04da3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Reduce product development time to 1/3, and you will triple profits and growth.”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04da3"/>
                </a:solidFill>
                <a:latin typeface="Georgia"/>
              </a:rPr>
              <a:t>	</a:t>
            </a:r>
            <a:r>
              <a:rPr b="0" lang="en-US" sz="1800" spc="-1" strike="noStrike">
                <a:solidFill>
                  <a:srgbClr val="a04da3"/>
                </a:solidFill>
                <a:latin typeface="Georgia"/>
              </a:rPr>
              <a:t>	</a:t>
            </a:r>
            <a:r>
              <a:rPr b="0" lang="en-US" sz="1800" spc="-1" strike="noStrike">
                <a:solidFill>
                  <a:srgbClr val="a04da3"/>
                </a:solidFill>
                <a:latin typeface="Georgia"/>
              </a:rPr>
              <a:t>	</a:t>
            </a:r>
            <a:r>
              <a:rPr b="0" lang="en-US" sz="1800" spc="-1" strike="noStrike">
                <a:solidFill>
                  <a:srgbClr val="a04da3"/>
                </a:solidFill>
                <a:latin typeface="Georgia"/>
              </a:rPr>
              <a:t>	</a:t>
            </a:r>
            <a:r>
              <a:rPr b="0" lang="en-US" sz="1800" spc="-1" strike="noStrike">
                <a:solidFill>
                  <a:srgbClr val="a04da3"/>
                </a:solidFill>
                <a:latin typeface="Georgia"/>
              </a:rPr>
              <a:t>	</a:t>
            </a:r>
            <a:r>
              <a:rPr b="0" lang="en-US" sz="1800" spc="-1" strike="noStrike">
                <a:solidFill>
                  <a:srgbClr val="a04da3"/>
                </a:solidFill>
                <a:latin typeface="Georgia"/>
              </a:rPr>
              <a:t>- Business Week</a:t>
            </a:r>
            <a:endParaRPr b="0" lang="en-US" sz="1800" spc="-1" strike="noStrike">
              <a:solidFill>
                <a:srgbClr val="a04da3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Project Management Uses Teamwork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Developed in 1950s and 1960s as a way to manage defense contract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Way of organizing individuals by products/projects not functio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ross-functional team approach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Not vertical divisions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No Easy Task!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-360" y="1752480"/>
            <a:ext cx="40338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Project managers never given all the time, people, and money needed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38086"/>
                </a:solidFill>
                <a:latin typeface="Georgia"/>
              </a:rPr>
              <a:t>Mirrored in student design teams</a:t>
            </a:r>
            <a:endParaRPr b="0" lang="en-US" sz="20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38086"/>
                </a:solidFill>
                <a:latin typeface="Georgia"/>
              </a:rPr>
              <a:t>Uncomfortable, but prepares for engineering world</a:t>
            </a:r>
            <a:endParaRPr b="0" lang="en-US" sz="20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Planning work, schedules, and direct resource use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38086"/>
                </a:solidFill>
                <a:latin typeface="Georgia"/>
              </a:rPr>
              <a:t>Gantt Charts</a:t>
            </a:r>
            <a:endParaRPr b="0" lang="en-US" sz="2000" spc="-1" strike="noStrike">
              <a:solidFill>
                <a:srgbClr val="438086"/>
              </a:solidFill>
              <a:latin typeface="Georgia"/>
            </a:endParaRPr>
          </a:p>
        </p:txBody>
      </p:sp>
      <p:sp>
        <p:nvSpPr>
          <p:cNvPr id="746" name="Rectangle 6"/>
          <p:cNvSpPr/>
          <p:nvPr/>
        </p:nvSpPr>
        <p:spPr>
          <a:xfrm>
            <a:off x="4419720" y="152388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 of a Gantt Ch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7" name="Picture 7" descr="Six week Gantt Chart"/>
          <p:cNvPicPr/>
          <p:nvPr/>
        </p:nvPicPr>
        <p:blipFill>
          <a:blip r:embed="rId1"/>
          <a:stretch/>
        </p:blipFill>
        <p:spPr>
          <a:xfrm>
            <a:off x="3962520" y="1905120"/>
            <a:ext cx="4719600" cy="2662200"/>
          </a:xfrm>
          <a:prstGeom prst="rect">
            <a:avLst/>
          </a:prstGeom>
          <a:ln w="0">
            <a:noFill/>
          </a:ln>
        </p:spPr>
      </p:pic>
      <p:sp>
        <p:nvSpPr>
          <p:cNvPr id="748" name="Rectangle 8"/>
          <p:cNvSpPr/>
          <p:nvPr/>
        </p:nvSpPr>
        <p:spPr>
          <a:xfrm>
            <a:off x="4191120" y="4495680"/>
            <a:ext cx="38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cad.cart.org/Home/robo/team/team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7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7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7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7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7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7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7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7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7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7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Group vs Team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6840" y="2249640"/>
            <a:ext cx="40338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Group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38086"/>
                </a:solidFill>
                <a:latin typeface="Georgia"/>
              </a:rPr>
              <a:t>Several individuals in some proximity to one another</a:t>
            </a:r>
            <a:endParaRPr b="0" lang="en-US" sz="2200" spc="-1" strike="noStrike">
              <a:solidFill>
                <a:srgbClr val="438086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52640" y="2249640"/>
            <a:ext cx="40338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Team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38086"/>
                </a:solidFill>
                <a:latin typeface="Georgia"/>
              </a:rPr>
              <a:t>Two or more persons working together to achieve a common purpose</a:t>
            </a:r>
            <a:endParaRPr b="0" lang="en-US" sz="2200" spc="-1" strike="noStrike">
              <a:solidFill>
                <a:srgbClr val="438086"/>
              </a:solidFill>
              <a:latin typeface="Georgia"/>
            </a:endParaRPr>
          </a:p>
        </p:txBody>
      </p:sp>
      <p:sp>
        <p:nvSpPr>
          <p:cNvPr id="752" name="Rectangle 6"/>
          <p:cNvSpPr/>
          <p:nvPr/>
        </p:nvSpPr>
        <p:spPr>
          <a:xfrm>
            <a:off x="685800" y="4952880"/>
            <a:ext cx="7772400" cy="762120"/>
          </a:xfrm>
          <a:prstGeom prst="rect">
            <a:avLst/>
          </a:prstGeom>
          <a:noFill/>
          <a:ln w="0">
            <a:noFill/>
          </a:ln>
          <a:effectLst>
            <a:outerShdw dist="12783" dir="10216345" blurRad="0" rotWithShape="0">
              <a:srgbClr val="ffffff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65040" indent="-255600"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  <a:ea typeface="ＭＳ Ｐゴシック"/>
              </a:rPr>
              <a:t>A Team IS NOT the same as a Group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Teams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Purpos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Its task at hand, reason it was formed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ollective style is how the members worked together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Each has own style, approach, dynamic, and ways of communication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riendship IS NOT a requirement for successful team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Team Attributes to be Successful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Common goal or purpose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Leadership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38086"/>
                </a:solidFill>
                <a:latin typeface="Georgia"/>
              </a:rPr>
              <a:t>Every member contributes</a:t>
            </a:r>
            <a:endParaRPr b="0" lang="en-US" sz="22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Each member makes unique contribution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Effective team communication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38086"/>
                </a:solidFill>
                <a:latin typeface="Georgia"/>
              </a:rPr>
              <a:t>Effective meetings, honest and open discussion</a:t>
            </a:r>
            <a:endParaRPr b="0" lang="en-US" sz="22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Creative Spark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Harmonious relationships among member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Effective planning and use of resource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Individual Team Member Attributes to be a Success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Attendance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38086"/>
                </a:solidFill>
                <a:latin typeface="Georgia"/>
              </a:rPr>
              <a:t>Attends all meetings on time (Dependable)</a:t>
            </a:r>
            <a:endParaRPr b="0" lang="en-US" sz="22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Responsible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38086"/>
                </a:solidFill>
                <a:latin typeface="Georgia"/>
              </a:rPr>
              <a:t>Accepts and completes tasks on time</a:t>
            </a:r>
            <a:endParaRPr b="0" lang="en-US" sz="22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Abilitie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38086"/>
                </a:solidFill>
                <a:latin typeface="Georgia"/>
              </a:rPr>
              <a:t>Meets team’s needs fully for the purpose</a:t>
            </a:r>
            <a:endParaRPr b="0" lang="en-US" sz="22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Creative and Energetic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38086"/>
                </a:solidFill>
                <a:latin typeface="Georgia"/>
              </a:rPr>
              <a:t>Is excited and has a positive attitude</a:t>
            </a:r>
            <a:endParaRPr b="0" lang="en-US" sz="22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Personality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38086"/>
                </a:solidFill>
                <a:latin typeface="Georgia"/>
              </a:rPr>
              <a:t>Encourages, creates productive and fun setting</a:t>
            </a:r>
            <a:endParaRPr b="0" lang="en-US" sz="2200" spc="-1" strike="noStrike">
              <a:solidFill>
                <a:srgbClr val="4380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Growth Stages of a Team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eams require nurturing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Must pass through several development stages before becoming successfu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Every team challenge is to grow through these stages and achieve performanc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Introduction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Engineering schools requiring students work in team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38086"/>
                </a:solidFill>
                <a:latin typeface="Georgia"/>
              </a:rPr>
              <a:t>Collaborative study groups</a:t>
            </a:r>
            <a:endParaRPr b="0" lang="en-US" sz="22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38086"/>
                </a:solidFill>
                <a:latin typeface="Georgia"/>
              </a:rPr>
              <a:t>Laboratory groups</a:t>
            </a:r>
            <a:endParaRPr b="0" lang="en-US" sz="22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38086"/>
                </a:solidFill>
                <a:latin typeface="Georgia"/>
              </a:rPr>
              <a:t>Design groups </a:t>
            </a:r>
            <a:endParaRPr b="0" lang="en-US" sz="2200" spc="-1" strike="noStrike">
              <a:solidFill>
                <a:srgbClr val="438086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548a"/>
                </a:solidFill>
                <a:latin typeface="Georgia"/>
              </a:rPr>
              <a:t>as part of individual classes</a:t>
            </a:r>
            <a:endParaRPr b="0" lang="en-US" sz="2000" spc="-1" strike="noStrike">
              <a:solidFill>
                <a:srgbClr val="53548a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548a"/>
                </a:solidFill>
                <a:latin typeface="Georgia"/>
              </a:rPr>
              <a:t>participating in extracurricular competitions</a:t>
            </a:r>
            <a:endParaRPr b="0" lang="en-US" sz="2000" spc="-1" strike="noStrike">
              <a:solidFill>
                <a:srgbClr val="53548a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Team emphasis mirrors management philosophy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Stage 1: Forming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Team members become acquainted with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38086"/>
                </a:solidFill>
                <a:latin typeface="Georgia"/>
              </a:rPr>
              <a:t>One another</a:t>
            </a:r>
            <a:endParaRPr b="0" lang="en-US" sz="22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38086"/>
                </a:solidFill>
                <a:latin typeface="Georgia"/>
              </a:rPr>
              <a:t>The Leader</a:t>
            </a:r>
            <a:endParaRPr b="0" lang="en-US" sz="2200" spc="-1" strike="noStrike">
              <a:solidFill>
                <a:srgbClr val="438086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548a"/>
                </a:solidFill>
                <a:latin typeface="Georgia"/>
              </a:rPr>
              <a:t>Or they choose</a:t>
            </a:r>
            <a:endParaRPr b="0" lang="en-US" sz="2000" spc="-1" strike="noStrike">
              <a:solidFill>
                <a:srgbClr val="53548a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38086"/>
                </a:solidFill>
                <a:latin typeface="Georgia"/>
              </a:rPr>
              <a:t>Team’s Purpose</a:t>
            </a:r>
            <a:endParaRPr b="0" lang="en-US" sz="22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38086"/>
                </a:solidFill>
                <a:latin typeface="Georgia"/>
              </a:rPr>
              <a:t>Overall level of commitment (workload) required</a:t>
            </a:r>
            <a:endParaRPr b="0" lang="en-US" sz="22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Learn one another’s personalities, abilities, talents, and weaknes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Stage 2: Storming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Enormity and complexity of task sinks i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May discourage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One person doing ALL the work is FAILUR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Leadership is critical and must focus team on task and strengths during rough time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Stage 3: Norming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Members begin to accept one another instead of complaining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hared expectations or rules among the team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eelings of closeness, interdependence, unity, and cooperation develop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Stage 4: Performing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Teams accomplish a great deal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Responsibilities distributed and executed individually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Each member holds the other accountable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Members may pitch in to help one another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Leader becomes indistinguishable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Stage 5: Adjourning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6840" y="2249640"/>
            <a:ext cx="40338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Team disband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Accomplished goal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Successful teams may feel euphoric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Underperforming team may feel disappointment or anger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771" name="Picture 5" descr=""/>
          <p:cNvPicPr/>
          <p:nvPr/>
        </p:nvPicPr>
        <p:blipFill>
          <a:blip r:embed="rId1"/>
          <a:stretch/>
        </p:blipFill>
        <p:spPr>
          <a:xfrm>
            <a:off x="4495680" y="2057400"/>
            <a:ext cx="4343400" cy="28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7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7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7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7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7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7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7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7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Team Leadership Structures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raditiona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Participativ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l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onsultan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eams need to choose a structure that models how they want to behav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4" name="Rectangle 5"/>
          <p:cNvSpPr/>
          <p:nvPr/>
        </p:nvSpPr>
        <p:spPr>
          <a:xfrm>
            <a:off x="1442880" y="5978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Traditional Model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456840" y="2249640"/>
            <a:ext cx="40338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Strong leader who directs the action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May have little participation  or discussion from team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Separation between leader and other team member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777" name="Picture 5" descr="emperor leader and follower"/>
          <p:cNvPicPr/>
          <p:nvPr/>
        </p:nvPicPr>
        <p:blipFill>
          <a:blip r:embed="rId1"/>
          <a:stretch/>
        </p:blipFill>
        <p:spPr>
          <a:xfrm>
            <a:off x="4419720" y="2057400"/>
            <a:ext cx="4724280" cy="3516480"/>
          </a:xfrm>
          <a:prstGeom prst="rect">
            <a:avLst/>
          </a:prstGeom>
          <a:ln w="0">
            <a:noFill/>
          </a:ln>
        </p:spPr>
      </p:pic>
      <p:sp>
        <p:nvSpPr>
          <p:cNvPr id="778" name="Rectangle 6"/>
          <p:cNvSpPr/>
          <p:nvPr/>
        </p:nvSpPr>
        <p:spPr>
          <a:xfrm>
            <a:off x="4724280" y="1600200"/>
            <a:ext cx="381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peror Leader Pengu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Rectangle 7"/>
          <p:cNvSpPr/>
          <p:nvPr/>
        </p:nvSpPr>
        <p:spPr>
          <a:xfrm>
            <a:off x="4543920" y="5562720"/>
            <a:ext cx="4612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penguin.servehttp.com/sven/antarctica/Penguins/Emperors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7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7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7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7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7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7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Participative Model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-360" y="1600200"/>
            <a:ext cx="40338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Leader positioned closely to all member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Short, direct communication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Direct accountability of the leader to all member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Dependence on leader on team’s participation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782" name="Picture 5" descr="q9y399iw"/>
          <p:cNvPicPr/>
          <p:nvPr/>
        </p:nvPicPr>
        <p:blipFill>
          <a:blip r:embed="rId1"/>
          <a:stretch/>
        </p:blipFill>
        <p:spPr>
          <a:xfrm>
            <a:off x="5181480" y="1752480"/>
            <a:ext cx="2832120" cy="4287960"/>
          </a:xfrm>
          <a:prstGeom prst="rect">
            <a:avLst/>
          </a:prstGeom>
          <a:ln w="0">
            <a:noFill/>
          </a:ln>
        </p:spPr>
      </p:pic>
      <p:sp>
        <p:nvSpPr>
          <p:cNvPr id="783" name="Rectangle 6"/>
          <p:cNvSpPr/>
          <p:nvPr/>
        </p:nvSpPr>
        <p:spPr>
          <a:xfrm>
            <a:off x="4724280" y="6172200"/>
            <a:ext cx="358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mirrorimageorigin.collegepublisher.com:80/media/paper660/stills/q9y399iw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Rectangle 7"/>
          <p:cNvSpPr/>
          <p:nvPr/>
        </p:nvSpPr>
        <p:spPr>
          <a:xfrm>
            <a:off x="4159800" y="1371600"/>
            <a:ext cx="498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Army Captain is an example of this ro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7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7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7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7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7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7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7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7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Flat Model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-360" y="2209680"/>
            <a:ext cx="40338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Emphasizes leader’s role as a working team member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Leader is an equal to the team, not above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787" name="Picture 5" descr="teamwork_kids_teamwork_A"/>
          <p:cNvPicPr/>
          <p:nvPr/>
        </p:nvPicPr>
        <p:blipFill>
          <a:blip r:embed="rId1"/>
          <a:stretch/>
        </p:blipFill>
        <p:spPr>
          <a:xfrm>
            <a:off x="4038480" y="1752480"/>
            <a:ext cx="4719600" cy="3511800"/>
          </a:xfrm>
          <a:prstGeom prst="rect">
            <a:avLst/>
          </a:prstGeom>
          <a:ln w="0">
            <a:noFill/>
          </a:ln>
        </p:spPr>
      </p:pic>
      <p:sp>
        <p:nvSpPr>
          <p:cNvPr id="788" name="Rectangle 6"/>
          <p:cNvSpPr/>
          <p:nvPr/>
        </p:nvSpPr>
        <p:spPr>
          <a:xfrm>
            <a:off x="4334760" y="5257800"/>
            <a:ext cx="410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mgcpuzzles.com/mgcpuzzles/corporate_ideas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Rectangle 7"/>
          <p:cNvSpPr/>
          <p:nvPr/>
        </p:nvSpPr>
        <p:spPr>
          <a:xfrm>
            <a:off x="4419720" y="990720"/>
            <a:ext cx="3809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you pick out the lead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7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7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7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7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onsultant Model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Relationship between student team and instructor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Instructor is not part of the team will be nearby to serve as a resourc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Advise team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Technical Consultant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Intervention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Disciplinary Actions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Why do Corporations Focus on the use Teams?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6840" y="2249640"/>
            <a:ext cx="40338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Engineers asked to solve complex problems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More factors in design than ever before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Teams understand more through collaboration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Many corporations are global, operations spread all around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Concurrent engineering widely employed due to time to market changes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Corporations increasing project management principles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713" name="Picture 7" descr="Dodge Viper Front"/>
          <p:cNvPicPr/>
          <p:nvPr/>
        </p:nvPicPr>
        <p:blipFill>
          <a:blip r:embed="rId1"/>
          <a:srcRect l="0" t="0" r="0" b="15332"/>
          <a:stretch/>
        </p:blipFill>
        <p:spPr>
          <a:xfrm>
            <a:off x="3962520" y="2666880"/>
            <a:ext cx="4948200" cy="3121200"/>
          </a:xfrm>
          <a:prstGeom prst="rect">
            <a:avLst/>
          </a:prstGeom>
          <a:ln w="0">
            <a:noFill/>
          </a:ln>
        </p:spPr>
      </p:pic>
      <p:sp>
        <p:nvSpPr>
          <p:cNvPr id="714" name="Rectangle 8"/>
          <p:cNvSpPr/>
          <p:nvPr/>
        </p:nvSpPr>
        <p:spPr>
          <a:xfrm>
            <a:off x="4572000" y="1905120"/>
            <a:ext cx="38098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dge Vi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ream to showroom in three years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Rectangle 9"/>
          <p:cNvSpPr/>
          <p:nvPr/>
        </p:nvSpPr>
        <p:spPr>
          <a:xfrm>
            <a:off x="4572000" y="5791320"/>
            <a:ext cx="38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dodge.com/vi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7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7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7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7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7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7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7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7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7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7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7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7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Modes of Team Action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onsensu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Majority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Minority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veraging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Exper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uthority Rule Without Discussio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uthority Rule With Discussio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onsensus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Decision in which all members find common ground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Opportunity to express views and hear other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Not a unanimous vot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Majority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Option that receives the most votes win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Takes less time than meeting consensu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Provides less creative dialog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Minority may become alienated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Minority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mall subset of a team makes decisio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Expedites the decisio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eam communication is les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Some members may be prevented from contribution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Averaging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ompromise in the worst form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ccomplished with haggling, bargaining, cajoling, and manipulating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Extreme opinions cancel ou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Little productive discussio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Least informed cancel votes of knowledgeabl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Exper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Best teams recognize and seek this person ou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Decision made with accurate, expert knowledg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ometimes experts may disagree on best course of action because of their knowledg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Authority Rule Without Discussion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trong leader makes decisions without discussing with team firs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Works well with small, administrative, decision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Greatest disadvantage is team’s trust in leader may be undermined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Authority Rule With Discussion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e leader makes the final decisio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eks out team input firs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eam members are part of the process and feel valued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Getting Going In Teams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Determine to give your best to help team grow and accomplish purpose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Do not expect perfect teammate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Be careful about first team impression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Be a leader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Help team achieve own identity and personality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Be patient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Evaluate and grade yourself and team’s performance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380880" y="9140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haracter of a Leader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-152640" y="2133720"/>
            <a:ext cx="40338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Great teams need great leadership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38086"/>
                </a:solidFill>
                <a:latin typeface="Georgia"/>
              </a:rPr>
              <a:t>Without it, humans tend to drift, act alone, and lose purpose</a:t>
            </a:r>
            <a:endParaRPr b="0" lang="en-US" sz="20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Ensure team members remain focused and maintain positive attitude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812" name="Picture 5" descr="great-leaders"/>
          <p:cNvPicPr/>
          <p:nvPr/>
        </p:nvPicPr>
        <p:blipFill>
          <a:blip r:embed="rId1"/>
          <a:stretch/>
        </p:blipFill>
        <p:spPr>
          <a:xfrm>
            <a:off x="3124080" y="1219320"/>
            <a:ext cx="6477120" cy="4816440"/>
          </a:xfrm>
          <a:prstGeom prst="rect">
            <a:avLst/>
          </a:prstGeom>
          <a:ln w="0">
            <a:noFill/>
          </a:ln>
        </p:spPr>
      </p:pic>
      <p:sp>
        <p:nvSpPr>
          <p:cNvPr id="813" name="Rectangle 6"/>
          <p:cNvSpPr/>
          <p:nvPr/>
        </p:nvSpPr>
        <p:spPr>
          <a:xfrm>
            <a:off x="5150520" y="4952880"/>
            <a:ext cx="3027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kennesaw.edu/ilec/home.s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8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8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8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8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8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8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Increasing Complexity of Projects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1800s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38086"/>
                </a:solidFill>
                <a:latin typeface="Georgia"/>
              </a:rPr>
              <a:t>Musket had 51 parts</a:t>
            </a:r>
            <a:endParaRPr b="0" lang="en-US" sz="20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Civil War era Springfield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38086"/>
                </a:solidFill>
                <a:latin typeface="Georgia"/>
              </a:rPr>
              <a:t>140 parts</a:t>
            </a:r>
            <a:endParaRPr b="0" lang="en-US" sz="20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Bicycle (late 1800s)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38086"/>
                </a:solidFill>
                <a:latin typeface="Georgia"/>
              </a:rPr>
              <a:t>200+ parts</a:t>
            </a:r>
            <a:endParaRPr b="0" lang="en-US" sz="20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Automobile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38086"/>
                </a:solidFill>
                <a:latin typeface="Georgia"/>
              </a:rPr>
              <a:t>10s of 1000s of parts</a:t>
            </a:r>
            <a:endParaRPr b="0" lang="en-US" sz="20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Boeing 747 aircraft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38086"/>
                </a:solidFill>
                <a:latin typeface="Georgia"/>
              </a:rPr>
              <a:t>5 million+ components</a:t>
            </a:r>
            <a:endParaRPr b="0" lang="en-US" sz="20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38086"/>
                </a:solidFill>
                <a:latin typeface="Georgia"/>
              </a:rPr>
              <a:t>Over 10,000 person-years of design time</a:t>
            </a:r>
            <a:endParaRPr b="0" lang="en-US" sz="2000" spc="-1" strike="noStrike">
              <a:solidFill>
                <a:srgbClr val="4380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Leader Attributes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Focus team on purpose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Be a team builder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Plan well and utilize resources effectively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Run effective meeting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Communicate effectively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Promote team harmony by fostering positive environment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Foster high levels of performance, creativity, and professionalism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Leadership Styles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456840" y="2249640"/>
            <a:ext cx="40338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Task-Oriented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38086"/>
                </a:solidFill>
                <a:latin typeface="Georgia"/>
              </a:rPr>
              <a:t>Concerned of team’s purpose and task at hand</a:t>
            </a:r>
            <a:endParaRPr b="0" lang="en-US" sz="20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38086"/>
                </a:solidFill>
                <a:latin typeface="Georgia"/>
              </a:rPr>
              <a:t>Plan the schedule</a:t>
            </a:r>
            <a:endParaRPr b="0" lang="en-US" sz="20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38086"/>
                </a:solidFill>
                <a:latin typeface="Georgia"/>
              </a:rPr>
              <a:t>Define the work</a:t>
            </a:r>
            <a:endParaRPr b="0" lang="en-US" sz="20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38086"/>
                </a:solidFill>
                <a:latin typeface="Georgia"/>
              </a:rPr>
              <a:t>Assign task responsibilities</a:t>
            </a:r>
            <a:endParaRPr b="0" lang="en-US" sz="20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38086"/>
                </a:solidFill>
                <a:latin typeface="Georgia"/>
              </a:rPr>
              <a:t>Set clear work standards</a:t>
            </a:r>
            <a:endParaRPr b="0" lang="en-US" sz="20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38086"/>
                </a:solidFill>
                <a:latin typeface="Georgia"/>
              </a:rPr>
              <a:t>Urge task completion</a:t>
            </a:r>
            <a:endParaRPr b="0" lang="en-US" sz="20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38086"/>
                </a:solidFill>
                <a:latin typeface="Georgia"/>
              </a:rPr>
              <a:t>Monitor results</a:t>
            </a:r>
            <a:endParaRPr b="0" lang="en-US" sz="2000" spc="-1" strike="noStrike">
              <a:solidFill>
                <a:srgbClr val="438086"/>
              </a:solidFill>
              <a:latin typeface="Georgia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4652640" y="2249640"/>
            <a:ext cx="40338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People-Oriented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Warm and supportive toward team members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Develop team rapport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Respect followers’ feelings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Sensitive to followers’ needs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Show trust in followers 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</p:txBody>
      </p:sp>
      <p:sp>
        <p:nvSpPr>
          <p:cNvPr id="819" name="Rectangle 7"/>
          <p:cNvSpPr/>
          <p:nvPr/>
        </p:nvSpPr>
        <p:spPr>
          <a:xfrm>
            <a:off x="685800" y="5791320"/>
            <a:ext cx="7772400" cy="533160"/>
          </a:xfrm>
          <a:prstGeom prst="rect">
            <a:avLst/>
          </a:prstGeom>
          <a:noFill/>
          <a:ln w="0">
            <a:noFill/>
          </a:ln>
          <a:effectLst>
            <a:outerShdw dist="12783" dir="10216345" blurRad="0" rotWithShape="0">
              <a:srgbClr val="ffffff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1000"/>
          </a:bodyPr>
          <a:p>
            <a:pPr marL="258840" indent="-181440"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  <a:ea typeface="ＭＳ Ｐゴシック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  <a:ea typeface="ＭＳ Ｐゴシック"/>
              </a:rPr>
              <a:t>A Successful team needs both styles of leadership!!!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Team Grading and Reports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Purpose accomplished?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Results high or low quality?  Why?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Team grow through all stages?  Detours?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Reflect on personality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Evaluate members on report card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38086"/>
                </a:solidFill>
                <a:latin typeface="Georgia"/>
              </a:rPr>
              <a:t>Example Next slide</a:t>
            </a:r>
            <a:endParaRPr b="0" lang="en-US" sz="22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Evaluate team leaders.  Effective?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Honestly evaluate your contribution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Team Member Report Card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graphicFrame>
        <p:nvGraphicFramePr>
          <p:cNvPr id="823" name=""/>
          <p:cNvGraphicFramePr/>
          <p:nvPr/>
        </p:nvGraphicFramePr>
        <p:xfrm>
          <a:off x="685800" y="1981080"/>
          <a:ext cx="7772400" cy="418968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38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ヒラギノ角ゴ Pro W3"/>
                        </a:rPr>
                        <a:t>_x0003_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iter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Team Memb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Pe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Jo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Bo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Attenda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Responsi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Abiliti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Creati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Average Grad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More Than Just One Par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4652640" y="2249640"/>
            <a:ext cx="40338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Modern design problems involve individual parts AND subsystem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38086"/>
                </a:solidFill>
                <a:latin typeface="Georgia"/>
              </a:rPr>
              <a:t>Mechanical</a:t>
            </a:r>
            <a:endParaRPr b="0" lang="en-US" sz="20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38086"/>
                </a:solidFill>
                <a:latin typeface="Georgia"/>
              </a:rPr>
              <a:t>Electrical</a:t>
            </a:r>
            <a:endParaRPr b="0" lang="en-US" sz="20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38086"/>
                </a:solidFill>
                <a:latin typeface="Georgia"/>
              </a:rPr>
              <a:t>Controls</a:t>
            </a:r>
            <a:endParaRPr b="0" lang="en-US" sz="20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38086"/>
                </a:solidFill>
                <a:latin typeface="Georgia"/>
              </a:rPr>
              <a:t>Thermal</a:t>
            </a:r>
            <a:endParaRPr b="0" lang="en-US" sz="20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38086"/>
                </a:solidFill>
                <a:latin typeface="Georgia"/>
              </a:rPr>
              <a:t>Many Others</a:t>
            </a:r>
            <a:endParaRPr b="0" lang="en-US" sz="20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Each requires specialists acting in team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720" name="Picture 5" descr="KSC-82PC-0107"/>
          <p:cNvPicPr/>
          <p:nvPr/>
        </p:nvPicPr>
        <p:blipFill>
          <a:blip r:embed="rId1"/>
          <a:stretch/>
        </p:blipFill>
        <p:spPr>
          <a:xfrm>
            <a:off x="533520" y="2286000"/>
            <a:ext cx="4033800" cy="3203640"/>
          </a:xfrm>
          <a:prstGeom prst="rect">
            <a:avLst/>
          </a:prstGeom>
          <a:ln w="0">
            <a:noFill/>
          </a:ln>
        </p:spPr>
      </p:pic>
      <p:sp>
        <p:nvSpPr>
          <p:cNvPr id="721" name="Rectangle 6"/>
          <p:cNvSpPr/>
          <p:nvPr/>
        </p:nvSpPr>
        <p:spPr>
          <a:xfrm>
            <a:off x="814680" y="5562720"/>
            <a:ext cx="350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images.ksc.nasa.gov/photos/1982/medium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7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7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7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7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7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7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7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7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7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7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7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7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Engineer Design Factors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6840" y="2249640"/>
            <a:ext cx="40338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Initial Price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Life Cycle Cost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Performance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Aesthetic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Overall Quality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Ergonomic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Reliability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52640" y="2249640"/>
            <a:ext cx="40338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Maintainability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Manufacturability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Environmental Factor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Safety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Liability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World Market Acceptance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Engineers are Doers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Involves solving difficult problem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nding technical solutions while considering numerous constraint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Make things happe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International Factor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5333760" y="2057400"/>
            <a:ext cx="40338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Many corporations are international in scope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Requires communication and sharing data electronically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Teams may never physically meet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38086"/>
                </a:solidFill>
                <a:latin typeface="Georgia"/>
              </a:rPr>
              <a:t>At any point in a 24-hour period in any part of the world, an engineer may be working on the product</a:t>
            </a:r>
            <a:endParaRPr b="0" lang="en-US" sz="2000" spc="-1" strike="noStrike">
              <a:solidFill>
                <a:srgbClr val="438086"/>
              </a:solidFill>
              <a:latin typeface="Georgia"/>
            </a:endParaRPr>
          </a:p>
        </p:txBody>
      </p:sp>
      <p:pic>
        <p:nvPicPr>
          <p:cNvPr id="729" name="Picture 5" descr="37"/>
          <p:cNvPicPr/>
          <p:nvPr/>
        </p:nvPicPr>
        <p:blipFill>
          <a:blip r:embed="rId1"/>
          <a:stretch/>
        </p:blipFill>
        <p:spPr>
          <a:xfrm>
            <a:off x="0" y="2209680"/>
            <a:ext cx="5405400" cy="3489480"/>
          </a:xfrm>
          <a:prstGeom prst="rect">
            <a:avLst/>
          </a:prstGeom>
          <a:ln w="0">
            <a:noFill/>
          </a:ln>
        </p:spPr>
      </p:pic>
      <p:sp>
        <p:nvSpPr>
          <p:cNvPr id="730" name="Rectangle 6"/>
          <p:cNvSpPr/>
          <p:nvPr/>
        </p:nvSpPr>
        <p:spPr>
          <a:xfrm>
            <a:off x="685800" y="5715000"/>
            <a:ext cx="3809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onlinesecurity.com/Community_Forum/Community_Forum_detail37.ph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7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7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7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7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7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7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7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7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The Need For Speed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oncurrent engineering achieves better designs and brings the product to market more quickly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ime to Marke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Total time needed to plan, prototype, and procure materials and to create marketing strategies, devise tooling, begin production and bring new product to the market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3T02:56:43Z</dcterms:created>
  <dc:creator>Christopher Neff</dc:creator>
  <dc:description/>
  <dc:language>en-US</dc:language>
  <cp:lastModifiedBy>walmart</cp:lastModifiedBy>
  <dcterms:modified xsi:type="dcterms:W3CDTF">2014-03-21T12:26:20Z</dcterms:modified>
  <cp:revision>30</cp:revision>
  <dc:subject/>
  <dc:title>Concurrent Engineering and Teamwork</dc:title>
</cp:coreProperties>
</file>